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F118-C20C-4239-9A0B-0CEE5C3614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778A-6613-4B73-9FD6-7FF86BB1A1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8CA1-FE1E-4BE4-A4C8-2D73AF173B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F326-858E-4C5B-A6A8-3AB04F610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4ED4-9F32-42B2-9912-4453A5FA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41C5-6693-453B-8488-8C3BF669A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365B-28F8-4804-8FA1-3F956002E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A7BD-A239-4488-8A36-EC9AAFE7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22E7-FF05-4F4F-B26D-42662541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2AE1-B3B3-4A03-AFAC-142EECC0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7915-91F2-40FD-8A38-E5492EDF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841D-D127-4DB8-B4E2-B972ACC0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32B1-C9BC-4528-8825-2961D655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F2E7-825F-4789-822E-66425197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6DF3-804B-48E3-9A4E-D51C0E07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8C4D-2310-44D3-B7A2-3803F688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E33C-F5BB-4D04-B50C-A79B3BAD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4DF7-FD50-4BE1-81CB-943C6B09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1D27-6BF9-4952-831E-FDA201CF0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AB35-4AB4-4EE6-B36A-D6070AA17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821E-5ABB-4EC8-9161-29D5A510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BB62-3F82-4770-A133-2A306D85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D775-5871-44FA-B43F-928CD4A9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0A22-F8F7-4DD7-B294-1C58C318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DE0E-6DF9-4C69-A6F7-15A1B4A2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722B-51F6-4173-B697-258FA159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0290-C9DA-4ED3-A995-A6523EC3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EAE7-0400-4435-BE1B-AA2CD22228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0506-94DC-43CC-B46F-8437D17980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12"/>
          <p:cNvGrpSpPr/>
          <p:nvPr/>
        </p:nvGrpSpPr>
        <p:grpSpPr>
          <a:xfrm>
            <a:off x="3786120" y="214200"/>
            <a:ext cx="5079960" cy="3579840"/>
            <a:chOff x="3786120" y="214200"/>
            <a:chExt cx="5079960" cy="3579840"/>
          </a:xfrm>
        </p:grpSpPr>
        <p:pic>
          <p:nvPicPr>
            <p:cNvPr id="106" name="Picture 2" descr=""/>
            <p:cNvPicPr/>
            <p:nvPr/>
          </p:nvPicPr>
          <p:blipFill>
            <a:blip r:embed="rId1"/>
            <a:stretch/>
          </p:blipFill>
          <p:spPr>
            <a:xfrm>
              <a:off x="3786120" y="214200"/>
              <a:ext cx="5079960" cy="357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Box 5"/>
            <p:cNvSpPr/>
            <p:nvPr/>
          </p:nvSpPr>
          <p:spPr>
            <a:xfrm rot="588000">
              <a:off x="5832360" y="1104480"/>
              <a:ext cx="1285560" cy="642600"/>
            </a:xfrm>
            <a:prstGeom prst="rect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haroni"/>
                  <a:ea typeface="Aharoni"/>
                </a:rPr>
                <a:t>£6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857160" y="714240"/>
            <a:ext cx="1571760" cy="1905120"/>
          </a:xfrm>
          <a:prstGeom prst="rect">
            <a:avLst/>
          </a:prstGeom>
          <a:ln w="0">
            <a:noFill/>
          </a:ln>
        </p:spPr>
      </p:pic>
      <p:sp>
        <p:nvSpPr>
          <p:cNvPr id="109" name="Oval Callout 8"/>
          <p:cNvSpPr/>
          <p:nvPr/>
        </p:nvSpPr>
        <p:spPr>
          <a:xfrm>
            <a:off x="1428840" y="2714760"/>
            <a:ext cx="2357280" cy="1214280"/>
          </a:xfrm>
          <a:prstGeom prst="wedgeEllipseCallout">
            <a:avLst>
              <a:gd name="adj1" fmla="val -31212"/>
              <a:gd name="adj2" fmla="val -88087"/>
            </a:avLst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wi angen sofa newy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Callout 9"/>
          <p:cNvSpPr/>
          <p:nvPr/>
        </p:nvSpPr>
        <p:spPr>
          <a:xfrm>
            <a:off x="571680" y="3357720"/>
            <a:ext cx="3633480" cy="1214280"/>
          </a:xfrm>
          <a:prstGeom prst="wedgeEllipseCallout">
            <a:avLst>
              <a:gd name="adj1" fmla="val -12925"/>
              <a:gd name="adj2" fmla="val -138990"/>
            </a:avLst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d ‘does gen i ddim digon o ar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Callout 10"/>
          <p:cNvSpPr/>
          <p:nvPr/>
        </p:nvSpPr>
        <p:spPr>
          <a:xfrm>
            <a:off x="2428920" y="2500200"/>
            <a:ext cx="2357280" cy="1214640"/>
          </a:xfrm>
          <a:prstGeom prst="wedgeEllipseCallout">
            <a:avLst>
              <a:gd name="adj1" fmla="val -73824"/>
              <a:gd name="adj2" fmla="val -70060"/>
            </a:avLst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th allai i wneu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3"/>
          <a:stretch/>
        </p:blipFill>
        <p:spPr>
          <a:xfrm>
            <a:off x="5857920" y="4572000"/>
            <a:ext cx="1609560" cy="1819440"/>
          </a:xfrm>
          <a:prstGeom prst="rect">
            <a:avLst/>
          </a:prstGeom>
          <a:ln w="0">
            <a:noFill/>
          </a:ln>
        </p:spPr>
      </p:pic>
      <p:sp>
        <p:nvSpPr>
          <p:cNvPr id="113" name="Oval Callout 13"/>
          <p:cNvSpPr/>
          <p:nvPr/>
        </p:nvSpPr>
        <p:spPr>
          <a:xfrm>
            <a:off x="2571840" y="3429000"/>
            <a:ext cx="2357280" cy="1214280"/>
          </a:xfrm>
          <a:prstGeom prst="wedgeEllipseCallout">
            <a:avLst>
              <a:gd name="adj1" fmla="val 116837"/>
              <a:gd name="adj2" fmla="val 149458"/>
            </a:avLst>
          </a:prstGeom>
          <a:solidFill>
            <a:srgbClr val="e8f0f4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th am ei phrynu gyda hurbwrpa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Oval 29"/>
          <p:cNvSpPr/>
          <p:nvPr/>
        </p:nvSpPr>
        <p:spPr>
          <a:xfrm>
            <a:off x="6072120" y="2071800"/>
            <a:ext cx="714600" cy="714240"/>
          </a:xfrm>
          <a:prstGeom prst="ellipse">
            <a:avLst/>
          </a:prstGeom>
          <a:solidFill>
            <a:srgbClr val="99ff66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8"/>
          <p:cNvSpPr/>
          <p:nvPr/>
        </p:nvSpPr>
        <p:spPr>
          <a:xfrm>
            <a:off x="3357720" y="2071800"/>
            <a:ext cx="714240" cy="714240"/>
          </a:xfrm>
          <a:prstGeom prst="ellipse">
            <a:avLst/>
          </a:prstGeom>
          <a:solidFill>
            <a:srgbClr val="99ff66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9"/>
          <p:cNvSpPr/>
          <p:nvPr/>
        </p:nvSpPr>
        <p:spPr>
          <a:xfrm>
            <a:off x="6715080" y="1785960"/>
            <a:ext cx="642960" cy="628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8"/>
          <p:cNvSpPr/>
          <p:nvPr/>
        </p:nvSpPr>
        <p:spPr>
          <a:xfrm>
            <a:off x="7143840" y="714240"/>
            <a:ext cx="914400" cy="914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aab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6"/>
          <p:cNvSpPr/>
          <p:nvPr/>
        </p:nvSpPr>
        <p:spPr>
          <a:xfrm>
            <a:off x="7596360" y="263700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0"/>
          <p:cNvSpPr/>
          <p:nvPr/>
        </p:nvSpPr>
        <p:spPr>
          <a:xfrm>
            <a:off x="428760" y="15001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llir prynu’r car dan y dull hurbwrc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e’r pris hurbwrcas yn cynnwys blaendal o 30% o’r pris arian parod ynghyd a 24 taliad misol o £1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2"/>
          <p:cNvSpPr/>
          <p:nvPr/>
        </p:nvSpPr>
        <p:spPr>
          <a:xfrm>
            <a:off x="2571840" y="285840"/>
            <a:ext cx="40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urbwrc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(hire purchas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1"/>
          <p:cNvSpPr/>
          <p:nvPr/>
        </p:nvSpPr>
        <p:spPr>
          <a:xfrm>
            <a:off x="402480" y="371484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aend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2"/>
          <p:cNvSpPr/>
          <p:nvPr/>
        </p:nvSpPr>
        <p:spPr>
          <a:xfrm>
            <a:off x="2436480" y="371484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30% o £5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4"/>
          <p:cNvSpPr/>
          <p:nvPr/>
        </p:nvSpPr>
        <p:spPr>
          <a:xfrm>
            <a:off x="2996640" y="4929120"/>
            <a:ext cx="163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4 × £19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5"/>
          <p:cNvSpPr/>
          <p:nvPr/>
        </p:nvSpPr>
        <p:spPr>
          <a:xfrm>
            <a:off x="399600" y="492912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liadau mi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6"/>
          <p:cNvSpPr/>
          <p:nvPr/>
        </p:nvSpPr>
        <p:spPr>
          <a:xfrm>
            <a:off x="4563000" y="4929120"/>
            <a:ext cx="13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= £46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428760" y="92880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e gwerthwr ceir ail-law yn gwerthu car am £54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6"/>
          <p:cNvSpPr/>
          <p:nvPr/>
        </p:nvSpPr>
        <p:spPr>
          <a:xfrm>
            <a:off x="460080" y="3001320"/>
            <a:ext cx="38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mic Sans MS"/>
              </a:rPr>
              <a:t>Beth yw’r pris hurbwrc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7" descr=""/>
          <p:cNvPicPr/>
          <p:nvPr/>
        </p:nvPicPr>
        <p:blipFill>
          <a:blip r:embed="rId1"/>
          <a:stretch/>
        </p:blipFill>
        <p:spPr>
          <a:xfrm>
            <a:off x="6429240" y="2857680"/>
            <a:ext cx="3652920" cy="26622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0"/>
          <p:cNvSpPr/>
          <p:nvPr/>
        </p:nvSpPr>
        <p:spPr>
          <a:xfrm>
            <a:off x="2305080" y="435780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0.3 × £5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4181040" y="4357800"/>
            <a:ext cx="13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= £16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496440" y="571608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1f20"/>
                </a:solidFill>
                <a:latin typeface="Comic Sans MS"/>
              </a:rPr>
              <a:t>Pris hurbwr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3"/>
          <p:cNvSpPr/>
          <p:nvPr/>
        </p:nvSpPr>
        <p:spPr>
          <a:xfrm>
            <a:off x="3111480" y="571500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£16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4"/>
          <p:cNvSpPr/>
          <p:nvPr/>
        </p:nvSpPr>
        <p:spPr>
          <a:xfrm>
            <a:off x="4205520" y="5715000"/>
            <a:ext cx="13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+ £46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5"/>
          <p:cNvSpPr/>
          <p:nvPr/>
        </p:nvSpPr>
        <p:spPr>
          <a:xfrm>
            <a:off x="5491440" y="5715000"/>
            <a:ext cx="13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= £6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1:31:20Z</dcterms:created>
  <dc:creator>Carwyn</dc:creator>
  <dc:description/>
  <dc:language>en-US</dc:language>
  <cp:lastModifiedBy>Carwyn</cp:lastModifiedBy>
  <dcterms:modified xsi:type="dcterms:W3CDTF">2009-11-04T22:19:42Z</dcterms:modified>
  <cp:revision>24</cp:revision>
  <dc:subject/>
  <dc:title>Diagramau cangen</dc:title>
</cp:coreProperties>
</file>